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2887-BA4D-4985-A945-C5ED7FD375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ADA4-F442-498D-8151-10871BF066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ы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уга В. С. Соловь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F23A-2B22-42AF-B50F-CD19FAE660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8E6F-3453-4F99-80C3-2DFBD7F107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526D-D91D-441C-9CA7-411DD849D7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A031-9D39-418B-8DD3-4EA706040C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23FA-7BF0-4E06-8C59-58754FE18D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A941-078A-4A4D-AD70-599B6E29FF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2E72-591A-446D-B810-6CD84198A4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6404-BCD3-4A82-88AC-CE88BFDAA4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6C2F-F2F7-4522-A761-67A88A9453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е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9E42-654A-424C-A670-2D71A2C7EC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Трубецко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723B-BF3A-4B1C-B2AC-780DB8AA38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ы круга В. С. Соловьё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 Лопат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15CB-5210-4A56-A993-40210DBDFD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абсолютного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лигиозный материал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позна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8D4C-BD82-4DE4-942E-1086E3945E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26FD-564B-4E1E-9176-9407EDD1C6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. Лопатин (1855-1920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F4F2-321D-400C-BDF9-F82182A8F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 в философскую систему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ы философ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ри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оме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нт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ая система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ая субстанция (монада) как базисное онтологическое поня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сти как базисный онтологический принци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учение о свободе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C0D1-2ABD-412A-8761-94BE848BC0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Трубецкой (1862-1905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C9D4-A803-44F9-A6C4-826D2B9BF4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ё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9ED0-E591-4EBF-800B-33A5482E55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52DB-B110-45CF-977C-B00AA5A0E0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B64C-3EDE-4139-8A96-A508E1E7BF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5476-A472-43C4-9552-DB558724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A55-69F0-418B-BE3A-153CF633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DC4F-5C2D-4F75-9F1B-B6AF79D4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01B5-EB48-4A68-9E86-E5069ABE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816E-819C-41E2-B15C-93C6F412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D13-31CC-440E-B1BA-765D146F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703D-5862-42E9-B9B5-D79D3E12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9E6-EF58-4A43-8B5A-3947E9B7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115-4584-4E76-B07D-91FF99E3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C9B3-F7EE-4636-85BC-1E0E4FBC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ED1D-275D-4C7C-A0CB-102667EE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B078-CD24-44A6-BB75-7B57941E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C4E4-114D-417D-A2BB-0F1E0B8851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28760" y="249984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руга В. С. Соловьё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 rot="10800000">
            <a:off x="250920" y="161892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обще всем на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, что я познаю им и в нём объектив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сеобщ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я признаю истинным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 всех и за всех, не для себя тольк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ктически я по поводу вс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ржу внутри себя собор со всеми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лько то для меня истинно, достовер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общим и безусло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олжно быть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таковым для всех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общее согласие, возмож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огласие, которое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сматриваю в своём сознании, есть дл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ня безусловный внутренний критерий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142560" y="1618920"/>
            <a:ext cx="672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 могу ошибаться внутри себ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носительно всеобщего орга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гласия – в сложных запутанных вопроса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том, что не для всех очевидно, о чё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щё не состоялось внешнего соглашен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я моя ошибка предполага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веренность в возможности общего соглас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этому каждый может меня обличи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оказать мне моё заблуждение 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признанного,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того, что все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нутри меня признают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бы ни силил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заглушить общий голос, он непогрешим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 когда я сознаю, что имею его за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смело отвечаю за все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719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431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43820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316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мпи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3098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цио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4316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липс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3098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олир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409840" y="1798560"/>
            <a:ext cx="431784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ая робинз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6189840" y="287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нти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6189840" y="521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аковост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телл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9716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ереходит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38498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тверж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5"/>
          <p:cNvSpPr/>
          <p:nvPr/>
        </p:nvSpPr>
        <p:spPr>
          <a:xfrm>
            <a:off x="672948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ъясняет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щезначи-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4317840" y="50734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590920" y="5505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овательно, созна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ая функ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88040" y="3562200"/>
            <a:ext cx="719280" cy="1258920"/>
          </a:xfrm>
          <a:custGeom>
            <a:avLst/>
            <a:gdLst>
              <a:gd name="textAreaLeft" fmla="*/ 96120 w 719280"/>
              <a:gd name="textAreaRight" fmla="*/ 623160 w 71928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332000" y="3562200"/>
            <a:ext cx="718920" cy="1258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4749840" y="2338560"/>
            <a:ext cx="718920" cy="1258560"/>
          </a:xfrm>
          <a:custGeom>
            <a:avLst/>
            <a:gdLst>
              <a:gd name="textAreaLeft" fmla="*/ 96120 w 718920"/>
              <a:gd name="textAreaRight" fmla="*/ 622800 w 71892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670200" y="2338560"/>
            <a:ext cx="719280" cy="1258560"/>
          </a:xfrm>
          <a:custGeom>
            <a:avLst/>
            <a:gdLst>
              <a:gd name="textAreaLeft" fmla="*/ 96120 w 719280"/>
              <a:gd name="textAreaRight" fmla="*/ 623160 w 71928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611280" y="2841480"/>
            <a:ext cx="3058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не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гу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5468760" y="2841480"/>
            <a:ext cx="30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трактно-обще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ойств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ног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409840" y="16192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еловеческое сознание н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адлежность индив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2050920" y="406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чное, ограниченн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ет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е, коллективное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 rot="10800000">
            <a:off x="142920" y="1620360"/>
            <a:ext cx="6945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нание человека начин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чувственного опыта, показания котор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гда частны и единичны; от эт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учаев единичный субъект лично, сам по себ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л бы ни психологической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логического права перейти к чему-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му, универсальному и необходимому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в действительности это делают все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огически совершенно непонятно, каки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ом отдельный индивид может зн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безусловной всеобщей достоверностью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бы то ни было: своё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ование, бытие внешнего мир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конечного времени и 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 rot="10800000">
            <a:off x="250920" y="162036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месте с тем вера каждого человек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еальное существование мира и всех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колебима и вселенски истинна.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же уполномочивает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средственно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объективность? Что свидетельству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нас непосредственно об этом реально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сеобщем существовании вещей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универсальных свойств и качеств?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 сознани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отором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нимаю вселенское соглас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 rot="10800000">
            <a:off x="431640" y="1798200"/>
            <a:ext cx="629784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итивность опыт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осприятие самобыт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ависимой от нас реаль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озможная логичность 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ют коренную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енную соборность сознан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логические функ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ные на позн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об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ышали бы компетенц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уальной лич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ли бы она не заключала в себ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личного начал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 rot="10800000">
            <a:off x="142560" y="1474560"/>
            <a:ext cx="6910200" cy="514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е слово наше доказывает фа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ого 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полагая е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ова никогда не мыслит человек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лько в форме сло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ь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 обобщается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о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влекаем, образуем, опреде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ие универсальные понятия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 же обособляем и закрепля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изируем наши представл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мест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во есть воплощение собор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не было бы слов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были непонятны и невнятны для друг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незачем и не с кем было говорит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о предполагает орган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взаимного понимания, родов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ое единство; и вместе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говорящих и внимающих люд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е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Трубецко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138560" y="3057480"/>
            <a:ext cx="48578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осозерцание Вл. Соловьё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мира в древнерусской иконопис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озрение в краск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ческие предположения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Трубецкой Е (1)"/>
          <p:cNvPicPr/>
          <p:nvPr/>
        </p:nvPicPr>
        <p:blipFill>
          <a:blip r:embed="rId1"/>
          <a:stretch/>
        </p:blipFill>
        <p:spPr>
          <a:xfrm>
            <a:off x="466560" y="1798560"/>
            <a:ext cx="33800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8" name="Text Box 6"/>
          <p:cNvSpPr/>
          <p:nvPr/>
        </p:nvSpPr>
        <p:spPr>
          <a:xfrm>
            <a:off x="4894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ы круга В. С. Соловь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1798200"/>
            <a:ext cx="323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 Лопат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Трубецко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Лопатин (3)"/>
          <p:cNvPicPr/>
          <p:nvPr/>
        </p:nvPicPr>
        <p:blipFill>
          <a:blip r:embed="rId1"/>
          <a:stretch/>
        </p:blipFill>
        <p:spPr>
          <a:xfrm>
            <a:off x="3778200" y="1619280"/>
            <a:ext cx="1971720" cy="252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5" descr="Трубецкой С (2)"/>
          <p:cNvPicPr/>
          <p:nvPr/>
        </p:nvPicPr>
        <p:blipFill>
          <a:blip r:embed="rId2"/>
          <a:stretch/>
        </p:blipFill>
        <p:spPr>
          <a:xfrm>
            <a:off x="5307120" y="2787480"/>
            <a:ext cx="2076480" cy="25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6" descr="Трубецкой Е (1)"/>
          <p:cNvPicPr/>
          <p:nvPr/>
        </p:nvPicPr>
        <p:blipFill>
          <a:blip r:embed="rId3"/>
          <a:stretch/>
        </p:blipFill>
        <p:spPr>
          <a:xfrm>
            <a:off x="6837480" y="3957480"/>
            <a:ext cx="1971720" cy="25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абсолютного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лигиозный материал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позна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 Лопатин (1855-1920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Лопатин (3)"/>
          <p:cNvPicPr/>
          <p:nvPr/>
        </p:nvPicPr>
        <p:blipFill>
          <a:blip r:embed="rId1"/>
          <a:stretch/>
        </p:blipFill>
        <p:spPr>
          <a:xfrm>
            <a:off x="539640" y="1798560"/>
            <a:ext cx="33800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Rectangle 5"/>
          <p:cNvSpPr/>
          <p:nvPr/>
        </p:nvSpPr>
        <p:spPr>
          <a:xfrm>
            <a:off x="4317840" y="3057480"/>
            <a:ext cx="45705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задачи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2-х 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ласть умозрительных вопрос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й связи как основа умозрительного знания действи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1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786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73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 в философскую систему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ы философ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ри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оме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нт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ая система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ая субстанция (монада) как базисное онтологическое поня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сти как базисный онтологический принци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учение о свободе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Трубецкой (1862-1905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4317840" y="3057480"/>
            <a:ext cx="44992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в Древней Грец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природе человеческого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9-1891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ания идеал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Логосе в его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Трубецкой С (1)"/>
          <p:cNvPicPr/>
          <p:nvPr/>
        </p:nvPicPr>
        <p:blipFill>
          <a:blip r:embed="rId1"/>
          <a:stretch/>
        </p:blipFill>
        <p:spPr>
          <a:xfrm>
            <a:off x="466560" y="1798560"/>
            <a:ext cx="3627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4894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ё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334656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327348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358920" y="5145120"/>
            <a:ext cx="647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пыт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вает нам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719280" y="352584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тигает идеи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м подчинён этот мир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079640" y="1906560"/>
            <a:ext cx="503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нкретное единство живых объектов)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аи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6981840" y="503712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6908760" y="4954680"/>
            <a:ext cx="733320" cy="1295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496880" y="4954680"/>
            <a:ext cx="733680" cy="1295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92912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347508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690560" y="2949480"/>
            <a:ext cx="2698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диничные вещи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редст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4749840" y="2949480"/>
            <a:ext cx="2698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щие начала, идеи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нципы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31720" y="1935000"/>
            <a:ext cx="1158840" cy="1917720"/>
          </a:xfrm>
          <a:custGeom>
            <a:avLst/>
            <a:gdLst>
              <a:gd name="textAreaLeft" fmla="*/ 155160 w 1158840"/>
              <a:gd name="textAreaRight" fmla="*/ 1003680 w 1158840"/>
              <a:gd name="textAreaTop" fmla="*/ 335520 h 1917720"/>
              <a:gd name="textAreaBottom" fmla="*/ 1390320 h 191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7448400" y="1935000"/>
            <a:ext cx="1101960" cy="192276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36240 h 1922760"/>
              <a:gd name="textAreaBottom" fmla="*/ 1393920 h 19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8416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ответственно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ков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566424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рационал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ое нач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1690560" y="154620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 всех различиях между ними дв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ных направления западной гносеологии: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зм и рационализм –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ходятся между собой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ивиз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2230560" y="539748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тем, сознание не может бы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езличным, ни единоличны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более, чем лично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собо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04292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первых,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ность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навательного акта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ключаетс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тношении ко вне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му предмету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«трансцендирован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467820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вторы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ий а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тендует на т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бы иметь обще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аж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223056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7448400" y="223056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1690560" y="179856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познание выводит нас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 пределы нашей индивидуальности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двух отношениях: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08:38:31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2:37:41Z</dcterms:modified>
  <cp:revision>21</cp:revision>
  <dc:subject>История русской философии - Лекция 8</dc:subject>
  <dc:title>Философы круга В. С. Соловьёва</dc:title>
</cp:coreProperties>
</file>